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342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3208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780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8601-A723-4335-9DEC-0524DA55A811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24528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0"/>
            <a:endCxn id="215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8" idx="0"/>
            <a:endCxn id="219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4"/>
            <a:endCxn id="212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8" idx="2"/>
            <a:endCxn id="220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3"/>
            <a:endCxn id="228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1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13" idx="3"/>
            <a:endCxn id="233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5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2"/>
            <a:endCxn id="237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3"/>
            <a:endCxn id="24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49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56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0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4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2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2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3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19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8" idx="3"/>
            <a:endCxn id="330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2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3280" y="3257640"/>
            <a:ext cx="2090520" cy="398880"/>
            <a:chOff x="1403280" y="3257640"/>
            <a:chExt cx="2090520" cy="398880"/>
          </a:xfrm>
        </p:grpSpPr>
        <p:sp>
          <p:nvSpPr>
            <p:cNvPr id="337" name=""/>
            <p:cNvSpPr/>
            <p:nvPr/>
          </p:nvSpPr>
          <p:spPr>
            <a:xfrm>
              <a:off x="1641240" y="325764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03280" y="3389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8800" y="11113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2"/>
            <a:endCxn id="338" idx="2"/>
          </p:cNvCxnSpPr>
          <p:nvPr/>
        </p:nvCxnSpPr>
        <p:spPr>
          <a:xfrm flipH="1" rot="16200000">
            <a:off x="141840" y="225072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2"/>
            <a:endCxn id="342" idx="2"/>
          </p:cNvCxnSpPr>
          <p:nvPr/>
        </p:nvCxnSpPr>
        <p:spPr>
          <a:xfrm flipH="1" rot="16200000">
            <a:off x="-1077120" y="347004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360000" y="1590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03280" y="5667480"/>
            <a:ext cx="2287800" cy="412920"/>
            <a:chOff x="1403280" y="5667480"/>
            <a:chExt cx="2287800" cy="412920"/>
          </a:xfrm>
        </p:grpSpPr>
        <p:sp>
          <p:nvSpPr>
            <p:cNvPr id="345" name=""/>
            <p:cNvSpPr/>
            <p:nvPr/>
          </p:nvSpPr>
          <p:spPr>
            <a:xfrm>
              <a:off x="1641960" y="568152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03280" y="5827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7280" y="56674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03280" y="4462560"/>
            <a:ext cx="2287800" cy="398880"/>
            <a:chOff x="1403280" y="4462560"/>
            <a:chExt cx="2287800" cy="398880"/>
          </a:xfrm>
        </p:grpSpPr>
        <p:sp>
          <p:nvSpPr>
            <p:cNvPr id="348" name=""/>
            <p:cNvSpPr/>
            <p:nvPr/>
          </p:nvSpPr>
          <p:spPr>
            <a:xfrm>
              <a:off x="1626840" y="446256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4594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"/>
          <p:cNvCxnSpPr>
            <a:stCxn id="339" idx="2"/>
            <a:endCxn id="349" idx="2"/>
          </p:cNvCxnSpPr>
          <p:nvPr/>
        </p:nvCxnSpPr>
        <p:spPr>
          <a:xfrm flipH="1" rot="16200000">
            <a:off x="-460440" y="285336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1" name=""/>
          <p:cNvGrpSpPr/>
          <p:nvPr/>
        </p:nvGrpSpPr>
        <p:grpSpPr>
          <a:xfrm>
            <a:off x="1432080" y="2054160"/>
            <a:ext cx="2018520" cy="398880"/>
            <a:chOff x="1432080" y="2054160"/>
            <a:chExt cx="2018520" cy="398880"/>
          </a:xfrm>
        </p:grpSpPr>
        <p:sp>
          <p:nvSpPr>
            <p:cNvPr id="352" name=""/>
            <p:cNvSpPr/>
            <p:nvPr/>
          </p:nvSpPr>
          <p:spPr>
            <a:xfrm>
              <a:off x="1671120" y="205416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2080" y="21859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4" name=""/>
          <p:cNvCxnSpPr>
            <a:stCxn id="339" idx="2"/>
            <a:endCxn id="353" idx="2"/>
          </p:cNvCxnSpPr>
          <p:nvPr/>
        </p:nvCxnSpPr>
        <p:spPr>
          <a:xfrm flipH="1" rot="16200000">
            <a:off x="758880" y="163476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58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1" idx="2"/>
            <a:endCxn id="359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67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9" name=""/>
          <p:cNvCxnSpPr>
            <a:stCxn id="370" idx="2"/>
            <a:endCxn id="368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1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72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70" idx="2"/>
            <a:endCxn id="373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76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8" name=""/>
          <p:cNvCxnSpPr>
            <a:stCxn id="379" idx="2"/>
            <a:endCxn id="377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67" idx="3"/>
            <a:endCxn id="364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2" idx="3"/>
            <a:endCxn id="381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4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87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85" idx="2"/>
            <a:endCxn id="388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1760" y="785520"/>
            <a:ext cx="857268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9760" y="3452760"/>
            <a:ext cx="2743200" cy="2668680"/>
            <a:chOff x="239760" y="345276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39760" y="345276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440" y="517356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0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7" name=""/>
          <p:cNvCxnSpPr>
            <a:endCxn id="40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2" idx="1"/>
            <a:endCxn id="41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7" idx="2"/>
            <a:endCxn id="41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5" idx="2"/>
            <a:endCxn id="42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8" idx="1"/>
            <a:endCxn id="42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12" idx="2"/>
            <a:endCxn id="42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3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4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4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7" name=""/>
          <p:cNvCxnSpPr>
            <a:stCxn id="436" idx="1"/>
            <a:endCxn id="44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6" idx="2"/>
            <a:endCxn id="44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08" idx="2"/>
            <a:endCxn id="43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6" idx="3"/>
            <a:endCxn id="45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87560" y="1892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7" idx="2"/>
            <a:endCxn id="468" idx="0"/>
          </p:cNvCxnSpPr>
          <p:nvPr/>
        </p:nvCxnSpPr>
        <p:spPr>
          <a:xfrm rot="5400000">
            <a:off x="4476240" y="175896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1497240" y="546408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9520" y="5199120"/>
            <a:ext cx="1872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72" idx="1"/>
            <a:endCxn id="473" idx="6"/>
          </p:cNvCxnSpPr>
          <p:nvPr/>
        </p:nvCxnSpPr>
        <p:spPr>
          <a:xfrm rot="10800000">
            <a:off x="4806360" y="3152160"/>
            <a:ext cx="2229480" cy="1373760"/>
          </a:xfrm>
          <a:prstGeom prst="bentConnector3">
            <a:avLst>
              <a:gd name="adj1" fmla="val 4037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4368600" y="44877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02160" y="140796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67" idx="2"/>
            <a:endCxn id="477" idx="0"/>
          </p:cNvCxnSpPr>
          <p:nvPr/>
        </p:nvCxnSpPr>
        <p:spPr>
          <a:xfrm flipH="1" rot="16200000">
            <a:off x="6416640" y="144540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2924640" y="1979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5080" y="207792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43080" y="206064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05920" y="12304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4160" y="170172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07120" y="644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6520" y="19368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75" idx="0"/>
            <a:endCxn id="483" idx="4"/>
          </p:cNvCxnSpPr>
          <p:nvPr/>
        </p:nvCxnSpPr>
        <p:spPr>
          <a:xfrm flipH="1" flipV="1" rot="5400000">
            <a:off x="5264280" y="35748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781560" y="3981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93680" y="3795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55920" y="3981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90" idx="2"/>
            <a:endCxn id="487" idx="0"/>
          </p:cNvCxnSpPr>
          <p:nvPr/>
        </p:nvCxnSpPr>
        <p:spPr>
          <a:xfrm>
            <a:off x="1162080" y="336528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2486160" y="4308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9160" y="452268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4" idx="2"/>
            <a:endCxn id="491" idx="0"/>
          </p:cNvCxnSpPr>
          <p:nvPr/>
        </p:nvCxnSpPr>
        <p:spPr>
          <a:xfrm rot="5400000">
            <a:off x="2539800" y="3399480"/>
            <a:ext cx="920160" cy="842040"/>
          </a:xfrm>
          <a:prstGeom prst="bentConnector3">
            <a:avLst>
              <a:gd name="adj1" fmla="val 5142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254880" y="295596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3680" y="27972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22440" y="171468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79" idx="2"/>
            <a:endCxn id="495" idx="0"/>
          </p:cNvCxnSpPr>
          <p:nvPr/>
        </p:nvCxnSpPr>
        <p:spPr>
          <a:xfrm flipH="1" rot="16200000">
            <a:off x="1019880" y="263340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3364920" y="5302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2120" y="5075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4120" y="5165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93560" y="5297040"/>
            <a:ext cx="1770120" cy="384480"/>
            <a:chOff x="493560" y="5297040"/>
            <a:chExt cx="1770120" cy="384480"/>
          </a:xfrm>
        </p:grpSpPr>
        <p:sp>
          <p:nvSpPr>
            <p:cNvPr id="502" name=""/>
            <p:cNvSpPr/>
            <p:nvPr/>
          </p:nvSpPr>
          <p:spPr>
            <a:xfrm>
              <a:off x="2111400" y="5435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560" y="53132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008080" y="52970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912960" y="5842080"/>
            <a:ext cx="1379520" cy="374400"/>
            <a:chOff x="912960" y="5842080"/>
            <a:chExt cx="1379520" cy="374400"/>
          </a:xfrm>
        </p:grpSpPr>
        <p:sp>
          <p:nvSpPr>
            <p:cNvPr id="506" name=""/>
            <p:cNvSpPr/>
            <p:nvPr/>
          </p:nvSpPr>
          <p:spPr>
            <a:xfrm>
              <a:off x="2139840" y="5965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2960" y="584532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995480" y="58420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9" name=""/>
          <p:cNvCxnSpPr>
            <a:stCxn id="498" idx="1"/>
            <a:endCxn id="502" idx="6"/>
          </p:cNvCxnSpPr>
          <p:nvPr/>
        </p:nvCxnSpPr>
        <p:spPr>
          <a:xfrm flipH="1" flipV="1">
            <a:off x="2277360" y="5511600"/>
            <a:ext cx="10580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8" idx="2"/>
            <a:endCxn id="506" idx="6"/>
          </p:cNvCxnSpPr>
          <p:nvPr/>
        </p:nvCxnSpPr>
        <p:spPr>
          <a:xfrm rot="5400000">
            <a:off x="2914920" y="513288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2595960" y="56973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3" idx="2"/>
            <a:endCxn id="499" idx="0"/>
          </p:cNvCxnSpPr>
          <p:nvPr/>
        </p:nvCxnSpPr>
        <p:spPr>
          <a:xfrm rot="5400000">
            <a:off x="2998800" y="421560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13120" y="312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0600" y="16524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84" idx="1"/>
            <a:endCxn id="514" idx="6"/>
          </p:cNvCxnSpPr>
          <p:nvPr/>
        </p:nvCxnSpPr>
        <p:spPr>
          <a:xfrm rot="10800000">
            <a:off x="4029120" y="40572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75" idx="1"/>
            <a:endCxn id="465" idx="0"/>
          </p:cNvCxnSpPr>
          <p:nvPr/>
        </p:nvCxnSpPr>
        <p:spPr>
          <a:xfrm flipV="1" rot="10800000">
            <a:off x="1162800" y="1619640"/>
            <a:ext cx="2412360" cy="258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203040" y="66996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13120" y="7603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9" idx="6"/>
            <a:endCxn id="484" idx="1"/>
          </p:cNvCxnSpPr>
          <p:nvPr/>
        </p:nvCxnSpPr>
        <p:spPr>
          <a:xfrm flipV="1">
            <a:off x="4029120" y="405720"/>
            <a:ext cx="603720" cy="44820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endCxn id="522" idx="2"/>
          </p:cNvCxnSpPr>
          <p:nvPr/>
        </p:nvCxnSpPr>
        <p:spPr>
          <a:xfrm flipH="1" rot="16200000">
            <a:off x="4683960" y="189756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6171120" y="4116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50240" y="416088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5" idx="2"/>
            <a:endCxn id="526" idx="0"/>
          </p:cNvCxnSpPr>
          <p:nvPr/>
        </p:nvCxnSpPr>
        <p:spPr>
          <a:xfrm flipH="1">
            <a:off x="7729200" y="3390480"/>
            <a:ext cx="10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27" name=""/>
          <p:cNvGrpSpPr/>
          <p:nvPr/>
        </p:nvGrpSpPr>
        <p:grpSpPr>
          <a:xfrm>
            <a:off x="7511040" y="5410080"/>
            <a:ext cx="918360" cy="576000"/>
            <a:chOff x="7511040" y="5410080"/>
            <a:chExt cx="918360" cy="576000"/>
          </a:xfrm>
        </p:grpSpPr>
        <p:sp>
          <p:nvSpPr>
            <p:cNvPr id="528" name=""/>
            <p:cNvSpPr/>
            <p:nvPr/>
          </p:nvSpPr>
          <p:spPr>
            <a:xfrm>
              <a:off x="7511040" y="55958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23160" y="54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85040" y="55958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1" name=""/>
          <p:cNvCxnSpPr>
            <a:stCxn id="472" idx="2"/>
            <a:endCxn id="529" idx="0"/>
          </p:cNvCxnSpPr>
          <p:nvPr/>
        </p:nvCxnSpPr>
        <p:spPr>
          <a:xfrm>
            <a:off x="7897320" y="490500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7850880" y="500544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64320" y="343368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30720" y="197640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226120" y="19447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84920" y="2108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53240" y="39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954120" y="2771640"/>
            <a:ext cx="1569240" cy="578160"/>
            <a:chOff x="6954120" y="2771640"/>
            <a:chExt cx="1569240" cy="578160"/>
          </a:xfrm>
        </p:grpSpPr>
        <p:sp>
          <p:nvSpPr>
            <p:cNvPr id="525" name=""/>
            <p:cNvSpPr/>
            <p:nvPr/>
          </p:nvSpPr>
          <p:spPr>
            <a:xfrm>
              <a:off x="6954120" y="2950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53240" y="27716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075120" y="2773440"/>
            <a:ext cx="1717560" cy="574920"/>
            <a:chOff x="3075120" y="2773440"/>
            <a:chExt cx="1717560" cy="574920"/>
          </a:xfrm>
        </p:grpSpPr>
        <p:sp>
          <p:nvSpPr>
            <p:cNvPr id="513" name=""/>
            <p:cNvSpPr/>
            <p:nvPr/>
          </p:nvSpPr>
          <p:spPr>
            <a:xfrm>
              <a:off x="3075120" y="2949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3520" y="2773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0400" y="3076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24332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7" idx="2"/>
            <a:endCxn id="539" idx="0"/>
          </p:cNvCxnSpPr>
          <p:nvPr/>
        </p:nvCxnSpPr>
        <p:spPr>
          <a:xfrm flipH="1" rot="16200000">
            <a:off x="4372560" y="3331800"/>
            <a:ext cx="1766160" cy="1823400"/>
          </a:xfrm>
          <a:prstGeom prst="bentConnector3">
            <a:avLst>
              <a:gd name="adj1" fmla="val 8379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498" idx="3"/>
            <a:endCxn id="539" idx="1"/>
          </p:cNvCxnSpPr>
          <p:nvPr/>
        </p:nvCxnSpPr>
        <p:spPr>
          <a:xfrm flipV="1">
            <a:off x="4311720" y="5505120"/>
            <a:ext cx="1056240" cy="1008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331956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202360" y="4948200"/>
            <a:ext cx="1734120" cy="895680"/>
            <a:chOff x="5202360" y="4948200"/>
            <a:chExt cx="1734120" cy="895680"/>
          </a:xfrm>
        </p:grpSpPr>
        <p:sp>
          <p:nvSpPr>
            <p:cNvPr id="539" name=""/>
            <p:cNvSpPr/>
            <p:nvPr/>
          </p:nvSpPr>
          <p:spPr>
            <a:xfrm>
              <a:off x="5396400" y="514008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1840" y="4948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0236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273560" y="516888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781680" y="1754280"/>
            <a:ext cx="1908000" cy="398880"/>
            <a:chOff x="6781680" y="1754280"/>
            <a:chExt cx="1908000" cy="398880"/>
          </a:xfrm>
        </p:grpSpPr>
        <p:sp>
          <p:nvSpPr>
            <p:cNvPr id="546" name=""/>
            <p:cNvSpPr/>
            <p:nvPr/>
          </p:nvSpPr>
          <p:spPr>
            <a:xfrm>
              <a:off x="6781680" y="175428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502480" y="1872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47" idx="6"/>
            <a:endCxn id="525" idx="3"/>
          </p:cNvCxnSpPr>
          <p:nvPr/>
        </p:nvCxnSpPr>
        <p:spPr>
          <a:xfrm flipH="1">
            <a:off x="8551440" y="1965240"/>
            <a:ext cx="167040" cy="1199520"/>
          </a:xfrm>
          <a:prstGeom prst="bentConnector3">
            <a:avLst>
              <a:gd name="adj1" fmla="val -12008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9" name=""/>
          <p:cNvGrpSpPr/>
          <p:nvPr/>
        </p:nvGrpSpPr>
        <p:grpSpPr>
          <a:xfrm>
            <a:off x="7053840" y="1251000"/>
            <a:ext cx="1650600" cy="398880"/>
            <a:chOff x="7053840" y="1251000"/>
            <a:chExt cx="1650600" cy="398880"/>
          </a:xfrm>
        </p:grpSpPr>
        <p:sp>
          <p:nvSpPr>
            <p:cNvPr id="550" name=""/>
            <p:cNvSpPr/>
            <p:nvPr/>
          </p:nvSpPr>
          <p:spPr>
            <a:xfrm>
              <a:off x="7053840" y="1251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17240" y="13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2" name=""/>
          <p:cNvCxnSpPr>
            <a:stCxn id="551" idx="6"/>
            <a:endCxn id="525" idx="3"/>
          </p:cNvCxnSpPr>
          <p:nvPr/>
        </p:nvCxnSpPr>
        <p:spPr>
          <a:xfrm flipH="1">
            <a:off x="8551080" y="147492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7" idx="2"/>
            <a:endCxn id="55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57" idx="2"/>
            <a:endCxn id="56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4" idx="0"/>
            <a:endCxn id="57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9" idx="2"/>
            <a:endCxn id="57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8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3" name=""/>
          <p:cNvCxnSpPr>
            <a:stCxn id="584" idx="2"/>
            <a:endCxn id="58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68" idx="2"/>
            <a:endCxn id="58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9" idx="0"/>
            <a:endCxn id="56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"/>
          <p:cNvCxnSpPr>
            <a:stCxn id="584" idx="1"/>
            <a:endCxn id="58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64" idx="1"/>
            <a:endCxn id="55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4"/>
            <a:endCxn id="56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64" idx="3"/>
            <a:endCxn id="59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601" idx="2"/>
            <a:endCxn id="60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0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0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07" name=""/>
          <p:cNvCxnSpPr>
            <a:stCxn id="561" idx="2"/>
            <a:endCxn id="60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5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6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0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4" name=""/>
          <p:cNvCxnSpPr>
            <a:stCxn id="615" idx="2"/>
            <a:endCxn id="61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1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8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1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89" idx="2"/>
            <a:endCxn id="62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3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4" idx="2"/>
            <a:endCxn id="63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4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2" name=""/>
          <p:cNvCxnSpPr>
            <a:stCxn id="643" idx="2"/>
            <a:endCxn id="64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4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4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43" idx="2"/>
            <a:endCxn id="64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4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1" name=""/>
          <p:cNvCxnSpPr>
            <a:stCxn id="652" idx="3"/>
            <a:endCxn id="65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45" idx="3"/>
            <a:endCxn id="63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5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5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8" name=""/>
          <p:cNvCxnSpPr>
            <a:stCxn id="654" idx="2"/>
            <a:endCxn id="65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6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2" name=""/>
          <p:cNvCxnSpPr>
            <a:stCxn id="654" idx="2"/>
            <a:endCxn id="66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6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40" idx="3"/>
            <a:endCxn id="66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75" idx="0"/>
            <a:endCxn id="67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8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83" idx="2"/>
            <a:endCxn id="68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8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1" name=""/>
          <p:cNvCxnSpPr>
            <a:stCxn id="692" idx="2"/>
            <a:endCxn id="69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9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6" name=""/>
          <p:cNvCxnSpPr>
            <a:stCxn id="692" idx="2"/>
            <a:endCxn id="69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4" idx="3"/>
            <a:endCxn id="68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0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5" name=""/>
          <p:cNvCxnSpPr>
            <a:stCxn id="689" idx="3"/>
            <a:endCxn id="70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0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9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2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7" idx="2"/>
            <a:endCxn id="100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7" idx="2"/>
            <a:endCxn id="103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0"/>
            <a:endCxn id="113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8" idx="0"/>
            <a:endCxn id="112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0"/>
            <a:endCxn id="121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4" idx="0"/>
            <a:endCxn id="123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1" idx="0"/>
            <a:endCxn id="127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5" idx="0"/>
            <a:endCxn id="129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5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97000" y="534960"/>
          <a:ext cx="753876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34960"/>
                    <a:ext cx="753876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72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79200" y="79200"/>
            <a:ext cx="8913960" cy="60325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770000" y="3948120"/>
            <a:ext cx="4227480" cy="222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ied_lo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hysical_a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_ca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ing_combin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28" idx="2"/>
            <a:endCxn id="727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2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4" name=""/>
          <p:cNvCxnSpPr>
            <a:stCxn id="728" idx="2"/>
            <a:endCxn id="733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5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36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8" name=""/>
          <p:cNvCxnSpPr>
            <a:stCxn id="728" idx="2"/>
            <a:endCxn id="737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>
            <a:stCxn id="726" idx="3"/>
            <a:endCxn id="743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4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47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0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2" name=""/>
          <p:cNvCxnSpPr>
            <a:stCxn id="753" idx="2"/>
            <a:endCxn id="751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54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55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3" idx="2"/>
            <a:endCxn id="756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2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>
            <a:stCxn id="728" idx="2"/>
            <a:endCxn id="748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36" idx="3"/>
            <a:endCxn id="768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53" idx="2"/>
            <a:endCxn id="763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89800" y="176544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52560" y="1895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640" y="107316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6" idx="2"/>
            <a:endCxn id="775" idx="2"/>
          </p:cNvCxnSpPr>
          <p:nvPr/>
        </p:nvCxnSpPr>
        <p:spPr>
          <a:xfrm flipH="1" rot="16200000">
            <a:off x="1314360" y="147888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777600" y="15811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262400" y="2860560"/>
            <a:ext cx="3945600" cy="398880"/>
            <a:chOff x="4262400" y="2860560"/>
            <a:chExt cx="3945600" cy="398880"/>
          </a:xfrm>
        </p:grpSpPr>
        <p:sp>
          <p:nvSpPr>
            <p:cNvPr id="780" name=""/>
            <p:cNvSpPr/>
            <p:nvPr/>
          </p:nvSpPr>
          <p:spPr>
            <a:xfrm>
              <a:off x="4499280" y="286056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62400" y="2992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2" name=""/>
          <p:cNvCxnSpPr>
            <a:stCxn id="774" idx="2"/>
            <a:endCxn id="781" idx="2"/>
          </p:cNvCxnSpPr>
          <p:nvPr/>
        </p:nvCxnSpPr>
        <p:spPr>
          <a:xfrm flipH="1" rot="16200000">
            <a:off x="3399480" y="225252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3" name=""/>
          <p:cNvGrpSpPr/>
          <p:nvPr/>
        </p:nvGrpSpPr>
        <p:grpSpPr>
          <a:xfrm>
            <a:off x="4262400" y="3408480"/>
            <a:ext cx="4469040" cy="398880"/>
            <a:chOff x="4262400" y="3408480"/>
            <a:chExt cx="4469040" cy="398880"/>
          </a:xfrm>
        </p:grpSpPr>
        <p:sp>
          <p:nvSpPr>
            <p:cNvPr id="784" name=""/>
            <p:cNvSpPr/>
            <p:nvPr/>
          </p:nvSpPr>
          <p:spPr>
            <a:xfrm>
              <a:off x="4498560" y="34084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62400" y="35398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"/>
          <p:cNvCxnSpPr>
            <a:stCxn id="774" idx="2"/>
            <a:endCxn id="785" idx="2"/>
          </p:cNvCxnSpPr>
          <p:nvPr/>
        </p:nvCxnSpPr>
        <p:spPr>
          <a:xfrm flipH="1" rot="16200000">
            <a:off x="3125520" y="252612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"/>
          <p:cNvSpPr/>
          <p:nvPr/>
        </p:nvSpPr>
        <p:spPr>
          <a:xfrm>
            <a:off x="3867120" y="2997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780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418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83560" y="286704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93880" y="4016520"/>
            <a:ext cx="2600640" cy="398880"/>
            <a:chOff x="1793880" y="4016520"/>
            <a:chExt cx="2600640" cy="398880"/>
          </a:xfrm>
        </p:grpSpPr>
        <p:sp>
          <p:nvSpPr>
            <p:cNvPr id="792" name=""/>
            <p:cNvSpPr/>
            <p:nvPr/>
          </p:nvSpPr>
          <p:spPr>
            <a:xfrm>
              <a:off x="2032920" y="401652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93880" y="41479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714760" y="4722840"/>
            <a:ext cx="4241160" cy="398880"/>
            <a:chOff x="2714760" y="4722840"/>
            <a:chExt cx="4241160" cy="398880"/>
          </a:xfrm>
        </p:grpSpPr>
        <p:sp>
          <p:nvSpPr>
            <p:cNvPr id="795" name=""/>
            <p:cNvSpPr/>
            <p:nvPr/>
          </p:nvSpPr>
          <p:spPr>
            <a:xfrm>
              <a:off x="2951640" y="472284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14760" y="48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7" name=""/>
          <p:cNvCxnSpPr>
            <a:stCxn id="798" idx="2"/>
            <a:endCxn id="796" idx="2"/>
          </p:cNvCxnSpPr>
          <p:nvPr/>
        </p:nvCxnSpPr>
        <p:spPr>
          <a:xfrm flipH="1" rot="16200000">
            <a:off x="2270520" y="453348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9" name=""/>
          <p:cNvGrpSpPr/>
          <p:nvPr/>
        </p:nvGrpSpPr>
        <p:grpSpPr>
          <a:xfrm>
            <a:off x="2714760" y="5257800"/>
            <a:ext cx="3306960" cy="398880"/>
            <a:chOff x="2714760" y="5257800"/>
            <a:chExt cx="3306960" cy="398880"/>
          </a:xfrm>
        </p:grpSpPr>
        <p:sp>
          <p:nvSpPr>
            <p:cNvPr id="800" name=""/>
            <p:cNvSpPr/>
            <p:nvPr/>
          </p:nvSpPr>
          <p:spPr>
            <a:xfrm>
              <a:off x="2951640" y="525780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3895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2" name=""/>
          <p:cNvCxnSpPr>
            <a:stCxn id="798" idx="2"/>
            <a:endCxn id="801" idx="2"/>
          </p:cNvCxnSpPr>
          <p:nvPr/>
        </p:nvCxnSpPr>
        <p:spPr>
          <a:xfrm flipH="1" rot="16200000">
            <a:off x="2003040" y="480096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1384200" y="419580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17440" y="4527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560" y="47293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714760" y="5776920"/>
            <a:ext cx="3732840" cy="398880"/>
            <a:chOff x="2714760" y="5776920"/>
            <a:chExt cx="3732840" cy="398880"/>
          </a:xfrm>
        </p:grpSpPr>
        <p:sp>
          <p:nvSpPr>
            <p:cNvPr id="807" name=""/>
            <p:cNvSpPr/>
            <p:nvPr/>
          </p:nvSpPr>
          <p:spPr>
            <a:xfrm>
              <a:off x="2950560" y="577692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90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776" idx="2"/>
            <a:endCxn id="793" idx="2"/>
          </p:cNvCxnSpPr>
          <p:nvPr/>
        </p:nvCxnSpPr>
        <p:spPr>
          <a:xfrm flipH="1" rot="16200000">
            <a:off x="157680" y="2634840"/>
            <a:ext cx="27298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2178000" y="422424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98" idx="2"/>
            <a:endCxn id="808" idx="2"/>
          </p:cNvCxnSpPr>
          <p:nvPr/>
        </p:nvCxnSpPr>
        <p:spPr>
          <a:xfrm flipH="1" rot="16200000">
            <a:off x="1743480" y="506052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1" name=""/>
          <p:cNvGrpSpPr/>
          <p:nvPr/>
        </p:nvGrpSpPr>
        <p:grpSpPr>
          <a:xfrm>
            <a:off x="3017880" y="2190600"/>
            <a:ext cx="152280" cy="1788840"/>
            <a:chOff x="3017880" y="2190600"/>
            <a:chExt cx="152280" cy="1788840"/>
          </a:xfrm>
        </p:grpSpPr>
        <p:sp>
          <p:nvSpPr>
            <p:cNvPr id="812" name=""/>
            <p:cNvSpPr/>
            <p:nvPr/>
          </p:nvSpPr>
          <p:spPr>
            <a:xfrm>
              <a:off x="301788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08772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705040" y="2190600"/>
            <a:ext cx="152280" cy="1788840"/>
            <a:chOff x="2705040" y="2190600"/>
            <a:chExt cx="152280" cy="1788840"/>
          </a:xfrm>
        </p:grpSpPr>
        <p:sp>
          <p:nvSpPr>
            <p:cNvPr id="815" name=""/>
            <p:cNvSpPr/>
            <p:nvPr/>
          </p:nvSpPr>
          <p:spPr>
            <a:xfrm>
              <a:off x="270504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77488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392200" y="2190600"/>
            <a:ext cx="152280" cy="1788840"/>
            <a:chOff x="2392200" y="2190600"/>
            <a:chExt cx="152280" cy="1788840"/>
          </a:xfrm>
        </p:grpSpPr>
        <p:sp>
          <p:nvSpPr>
            <p:cNvPr id="818" name=""/>
            <p:cNvSpPr/>
            <p:nvPr/>
          </p:nvSpPr>
          <p:spPr>
            <a:xfrm>
              <a:off x="239220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46204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079720" y="2190600"/>
            <a:ext cx="152280" cy="1788840"/>
            <a:chOff x="2079720" y="2190600"/>
            <a:chExt cx="152280" cy="1788840"/>
          </a:xfrm>
        </p:grpSpPr>
        <p:sp>
          <p:nvSpPr>
            <p:cNvPr id="821" name=""/>
            <p:cNvSpPr/>
            <p:nvPr/>
          </p:nvSpPr>
          <p:spPr>
            <a:xfrm>
              <a:off x="207972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4956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4" idx="2"/>
            <a:endCxn id="827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2" idx="2"/>
            <a:endCxn id="833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25" idx="2"/>
            <a:endCxn id="838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2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2" name=""/>
          <p:cNvCxnSpPr>
            <a:stCxn id="825" idx="2"/>
            <a:endCxn id="840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24" idx="3"/>
            <a:endCxn id="845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32" idx="3"/>
            <a:endCxn id="851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2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54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56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8" name=""/>
          <p:cNvCxnSpPr>
            <a:stCxn id="832" idx="2"/>
            <a:endCxn id="857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60" idx="2"/>
            <a:endCxn id="863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67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69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1" name=""/>
          <p:cNvCxnSpPr>
            <a:stCxn id="860" idx="2"/>
            <a:endCxn id="870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4" idx="2"/>
            <a:endCxn id="876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7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0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1" name=""/>
          <p:cNvCxnSpPr>
            <a:stCxn id="874" idx="2"/>
            <a:endCxn id="878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74" idx="3"/>
            <a:endCxn id="885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6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83" idx="3"/>
            <a:endCxn id="889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87" idx="0"/>
            <a:endCxn id="893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94" idx="0"/>
            <a:endCxn id="887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6"/>
            <a:endCxn id="891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03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0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87480" y="79200"/>
            <a:ext cx="8993160" cy="605016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803920" y="5081400"/>
            <a:ext cx="3193920" cy="1090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_resul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ac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4" idx="2"/>
            <a:endCxn id="913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6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18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0" name=""/>
          <p:cNvCxnSpPr>
            <a:stCxn id="914" idx="2"/>
            <a:endCxn id="919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1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2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4" idx="2"/>
            <a:endCxn id="923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5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29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1" name=""/>
          <p:cNvCxnSpPr>
            <a:stCxn id="914" idx="2"/>
            <a:endCxn id="930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2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3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4" idx="2"/>
            <a:endCxn id="934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39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1" name=""/>
          <p:cNvCxnSpPr>
            <a:stCxn id="914" idx="2"/>
            <a:endCxn id="940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320" y="878040"/>
            <a:ext cx="86677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65680" y="1838160"/>
            <a:ext cx="40384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9440" y="2690640"/>
            <a:ext cx="3767040" cy="131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62000" y="2517840"/>
            <a:ext cx="3318120" cy="2741040"/>
            <a:chOff x="1962000" y="2517840"/>
            <a:chExt cx="3318120" cy="2741040"/>
          </a:xfrm>
        </p:grpSpPr>
        <p:sp>
          <p:nvSpPr>
            <p:cNvPr id="144" name=""/>
            <p:cNvSpPr/>
            <p:nvPr/>
          </p:nvSpPr>
          <p:spPr>
            <a:xfrm flipH="1">
              <a:off x="4430520" y="251784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444920" y="293508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59320" y="326700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62000" y="407628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stCxn id="943" idx="2"/>
            <a:endCxn id="946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4" idx="2"/>
            <a:endCxn id="949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0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1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43" idx="3"/>
            <a:endCxn id="956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7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52" idx="3"/>
            <a:endCxn id="962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3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44" idx="3"/>
            <a:endCxn id="967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1" name=""/>
          <p:cNvCxnSpPr>
            <a:stCxn id="944" idx="2"/>
            <a:endCxn id="970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4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77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1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4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7" name=""/>
          <p:cNvCxnSpPr>
            <a:stCxn id="988" idx="2"/>
            <a:endCxn id="975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8" idx="2"/>
            <a:endCxn id="978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0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88" idx="2"/>
            <a:endCxn id="982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8" idx="2"/>
            <a:endCxn id="985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88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74" idx="3"/>
            <a:endCxn id="995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4" idx="3"/>
            <a:endCxn id="999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5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09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2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5" name=""/>
          <p:cNvCxnSpPr>
            <a:stCxn id="1016" idx="2"/>
            <a:endCxn id="1003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6" idx="2"/>
            <a:endCxn id="1006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6" idx="2"/>
            <a:endCxn id="1010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1016" idx="2"/>
            <a:endCxn id="1013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02" idx="3"/>
            <a:endCxn id="1023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3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2" idx="3"/>
            <a:endCxn id="1027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4" idx="3"/>
            <a:endCxn id="1031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4" idx="4"/>
            <a:endCxn id="1009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2240" y="3421080"/>
            <a:ext cx="2743200" cy="2668680"/>
            <a:chOff x="192240" y="3421080"/>
            <a:chExt cx="2743200" cy="2668680"/>
          </a:xfrm>
        </p:grpSpPr>
        <p:sp>
          <p:nvSpPr>
            <p:cNvPr id="151" name=""/>
            <p:cNvSpPr/>
            <p:nvPr/>
          </p:nvSpPr>
          <p:spPr>
            <a:xfrm>
              <a:off x="192240" y="34210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51418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080" y="3484440"/>
            <a:ext cx="2743200" cy="2668680"/>
            <a:chOff x="208080" y="3484440"/>
            <a:chExt cx="2743200" cy="2668680"/>
          </a:xfrm>
        </p:grpSpPr>
        <p:sp>
          <p:nvSpPr>
            <p:cNvPr id="155" name=""/>
            <p:cNvSpPr/>
            <p:nvPr/>
          </p:nvSpPr>
          <p:spPr>
            <a:xfrm>
              <a:off x="20808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376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840" y="38160"/>
            <a:ext cx="7075440" cy="6195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33640" y="4190760"/>
            <a:ext cx="3902040" cy="20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etho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no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52600" y="109044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438280" y="1692360"/>
          <a:ext cx="542772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92360"/>
                    <a:ext cx="542772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58120" y="277956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2320" y="4138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55292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5280" y="3225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9960" y="3233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6" idx="0"/>
            <a:endCxn id="168" idx="4"/>
          </p:cNvCxnSpPr>
          <p:nvPr/>
        </p:nvCxnSpPr>
        <p:spPr>
          <a:xfrm flipH="1" flipV="1">
            <a:off x="745920" y="339984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5" idx="0"/>
            <a:endCxn id="167" idx="4"/>
          </p:cNvCxnSpPr>
          <p:nvPr/>
        </p:nvCxnSpPr>
        <p:spPr>
          <a:xfrm flipH="1" flipV="1">
            <a:off x="1640880" y="3392280"/>
            <a:ext cx="5400" cy="732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1" idx="2"/>
            <a:endCxn id="174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2" idx="0"/>
            <a:endCxn id="176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3" idx="3"/>
            <a:endCxn id="180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0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71" idx="3"/>
            <a:endCxn id="185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9" idx="2"/>
            <a:endCxn id="187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9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6" idx="2"/>
            <a:endCxn id="192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6" idx="2"/>
            <a:endCxn id="195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6" idx="2"/>
            <a:endCxn id="198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  <a:endCxn id="203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1" idx="0"/>
            <a:endCxn id="206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27:59Z</dcterms:modified>
  <cp:revision>103</cp:revision>
  <dc:subject/>
  <dc:title>LPM/5 - Analysis Constructs</dc:title>
</cp:coreProperties>
</file>